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ECF-2573-4629-A0DC-687F19A2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4A1-7E01-4F45-8730-6FADF1FF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CD0-5735-466F-B689-70BB9AF8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2852-DDA6-4A9B-B8AB-AAD8DA12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663-4519-4CA1-BCA1-7840C898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887-6162-4701-8BB6-2382F25A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914-63B0-47F9-8C1B-61B45F49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89A-8D32-45A0-9961-1264487F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974E-2D6A-4642-8A81-3262E47E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58E-F025-4CE8-A893-DE800597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C6C-9715-4F16-B2F3-C31D0D9B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F826-F5A5-4551-879C-AF0F638A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EA45-7D70-4C03-971B-DBDC2BE4C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2413440" y="22860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Metho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comparative modeling and docking pipel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reliminary version was benchmar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609480" y="23623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ing functions for protein-ligand, protein-peptide and protein-protein inter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liminary statistical scoring function for protein-ligand complexes was developed (RankScore and PoseSco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in-peptide/protein statistical scoring functions are under development (GQ Do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09480" y="48769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ing of protein loops and sidechains in the presence of a flexible lig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O+MD/MC approach is under development (D. Bark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pling based on protein sidechain rotamer library will be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153160" y="762120"/>
            <a:ext cx="43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Fan, B. Shoichet, M. Jacobs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2819520" y="22860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AH super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533520" y="1295280"/>
            <a:ext cx="76197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u4426 (PDBcode 3NQB): Adenine deaminase, prediction of adenine boun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pres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0637: N6-methyladenine deaminase, prediction of N6-methyladenine boun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C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re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p3690 (PDBcode 3K2G)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, being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|26248344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produced, needs to be improved on the basis of 3K2G 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hJ (gi|16128309)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, being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650040" y="7621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 Raus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655720" y="2286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GST super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33520" y="1295280"/>
            <a:ext cx="761976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ent starvation protein A (SSPA), substrate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 for one SSPA structure (PDBcode 3LYP), continuing with 3 other SSPA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GST homologs (YfcG and YghU), protein binding partner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teraction partner was predicted for YghU, based on a DIP database search (supported by affinity-tag experiment). (YC 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T, YibF and YfcF, ligand disco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tarted yet, will rely on holo crystal structures of YibF and YfcF, HEI docking databa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810880" y="76212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 Armstrong, P. Babbi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776320" y="228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 induced ques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533520" y="1295280"/>
            <a:ext cx="761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identify proteins that are more likely to have a ligand predicted correctly by virtual scre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rking plan was proposed (YC Chen, P Weinkam, H F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733560" y="762120"/>
            <a:ext cx="10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Al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512720" y="22860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 Projects helped by EFI method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33520" y="1295280"/>
            <a:ext cx="76197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 chaperone, ligand discovery (NIH Roadmap Center on Protein Folding Machinery; W. Chiu, P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s generated based on a 4.5 Å cryo-EM structure of one TriC subunit; to be tested shortly by J. Fryd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and discovery for SLC membrane transporters (NIH Roadmap centers CSMP (PSI Biology; R. Stroud, PI) and PMT (PGRN; K. Giacomini, 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rug ligands were predicted and tested experimentally with comparative models of several SLC transporters (A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essinger, B. Shoichet, R. Stroud, K. Giacomi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4:28:02Z</dcterms:created>
  <dc:creator>John Gerlt</dc:creator>
  <dc:description/>
  <dc:language>en-US</dc:language>
  <cp:lastModifiedBy>Andrej Sali</cp:lastModifiedBy>
  <dcterms:modified xsi:type="dcterms:W3CDTF">2011-01-04T16:25:26Z</dcterms:modified>
  <cp:revision>63</cp:revision>
  <dc:subject/>
  <dc:title>PowerPoint Presentation</dc:title>
</cp:coreProperties>
</file>