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3C5-8025-432F-B8B8-20E4B2EE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275-1893-4166-A2CD-A88E7C4A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D76-3BA2-4131-88DE-E1F6C176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0EF-08E2-45FA-9DD9-155DFBFA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A51-D900-4B74-9E93-FE0ACAA2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552-575A-40EA-82D3-08625755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05C-0629-47D4-A1D2-F1337EF8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8E3-EEB0-4981-BF5A-91258F0A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1B2-4C7C-4D21-BB04-9C0536BB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225-AD57-4602-82C4-4D99BC0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EFF-E5A9-47D2-AF6D-3D649211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58D-D79E-4AE8-9BF4-AC9B0973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5677-5A59-4657-95DC-06EE64F8D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413440" y="2286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Metho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comparative modeling and docking pip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reliminary version was benchmar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09480" y="2362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ing functions for protein-ligand, protein-peptide and protein-protein inter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liminary statistical scoring function for protein-ligand complexes was developed (RankScore and PoseSco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-peptide/protein statistical scoring functions are under development (GQ Do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09480" y="4876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ing of protein loops and sidechains in the presence of a flexible lig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O+MD/MC approach is under development (D. Bark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ing based on protein sidechain rotamer library will b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153160" y="762120"/>
            <a:ext cx="43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Fan, B. Shoichet, M. Jacobs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819520" y="2286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AH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33520" y="1295280"/>
            <a:ext cx="76197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u4426 (PDBcode 3NQB): Adenine deaminase, prediction of 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pres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0637: N6-methyladenine deaminase, prediction of N6-methyl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r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p3690 (PDBcode 3K2G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|26248344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produced, needs to be improved on the basis of 3K2G 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hJ (gi|16128309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650040" y="762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Raus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655720" y="2286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GST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33520" y="1295280"/>
            <a:ext cx="76197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ent starvation protein A (SSPA), substrate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 for one SSPA structure (PDBcode 3LYP), continuing with 3 other SSPA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GST homologs (YfcG and YghU), protein binding partner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teraction partner was predicted for YghU, based on a DIP database search (supported by affinity-tag experiment). (YC 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T, YibF and YfcF, ligand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tarted yet, will rely on holo crystal structures of YibF and YfcF, HEI docking databa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10880" y="7621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Armstrong, P. Babb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776320" y="228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 induced ques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533520" y="12952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identify proteins that are more likely to have a ligand predicted correctly by virtual scre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ing plan was proposed (YC Chen, P Weinkam, H F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733560" y="76212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Al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512720" y="22860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Projects helped by EFI method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3520" y="1295280"/>
            <a:ext cx="76197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 chaperone, ligand discovery (NIH Roadmap Center on Protein Folding Machinery; W. Chiu, P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s generated based on a 4.5 Å cryo-EM structure of one TriC subunit; to be tested shortly by J. Fryd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and discovery for SLC membrane transporters (NIH Roadmap centers CSMP (PSI Biology; R. Stroud, PI) and PMT (PGRN; K. Giacomini,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rug ligands were predicted and tested experimentally with comparative models of several SLC transporters (A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essinger, B. Shoichet, R. Stroud, K. Giacom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4:28:02Z</dcterms:created>
  <dc:creator>John Gerlt</dc:creator>
  <dc:description/>
  <dc:language>en-US</dc:language>
  <cp:lastModifiedBy>Andrej Sali</cp:lastModifiedBy>
  <dcterms:modified xsi:type="dcterms:W3CDTF">2011-01-04T16:25:26Z</dcterms:modified>
  <cp:revision>63</cp:revision>
  <dc:subject/>
  <dc:title>PowerPoint Presentation</dc:title>
</cp:coreProperties>
</file>