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5589-0F44-400C-9579-D89B9CA7B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24C8-A484-4B53-ADC7-C22C24379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BD93-DF31-43FD-812B-366D99852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B0E0-845B-448F-BC74-027B8B2D9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4914-7FEB-4288-83D9-A983526FE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2118-599F-4458-A3B2-E024126F2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0BD9-5619-4084-88D5-A786AEA61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3197-261E-4069-9658-8A170C7E9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2B76-E0A0-4488-BD40-0C1517EA9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248F-31D3-44E0-B078-EC6D8DE0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E65B-5023-40B5-A9B4-1EB7E362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4E83-704E-468E-A0D5-37B89499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D4E4-4FB5-4C9E-B719-372044E8A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EFI-logo-final-color"/>
          <p:cNvPicPr/>
          <p:nvPr/>
        </p:nvPicPr>
        <p:blipFill>
          <a:blip r:embed="rId1"/>
          <a:stretch/>
        </p:blipFill>
        <p:spPr>
          <a:xfrm>
            <a:off x="152280" y="190440"/>
            <a:ext cx="547920" cy="5479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8"/>
          <p:cNvSpPr/>
          <p:nvPr/>
        </p:nvSpPr>
        <p:spPr>
          <a:xfrm>
            <a:off x="2413440" y="228600"/>
            <a:ext cx="38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FI: Method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"/>
          <p:cNvPicPr/>
          <p:nvPr/>
        </p:nvPicPr>
        <p:blipFill>
          <a:blip r:embed="rId2"/>
          <a:stretch/>
        </p:blipFill>
        <p:spPr>
          <a:xfrm>
            <a:off x="8153280" y="763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609480" y="1295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ted comparative modeling and docking pipel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20000"/>
              </a:lnSpc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preliminary version was benchmark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609480" y="23623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oring functions for protein-ligand, protein-peptide and protein-protein intera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liminary statistical scoring function for protein-ligand complexes was developed (RankScore and PoseScor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tein-peptide/protein statistical scoring functions are under development (GQ Do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609480" y="4876920"/>
            <a:ext cx="7925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mpling of protein loops and sidechains in the presence of a flexible lig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MINO+MD/MC approach is under development (D. Barka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mpling based on protein sidechain rotamer library will be ad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"/>
          <p:cNvSpPr/>
          <p:nvPr/>
        </p:nvSpPr>
        <p:spPr>
          <a:xfrm>
            <a:off x="2153160" y="762120"/>
            <a:ext cx="436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Fan, B. Shoichet, M. Jacobson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EFI-logo-final-color"/>
          <p:cNvPicPr/>
          <p:nvPr/>
        </p:nvPicPr>
        <p:blipFill>
          <a:blip r:embed="rId1"/>
          <a:stretch/>
        </p:blipFill>
        <p:spPr>
          <a:xfrm>
            <a:off x="152280" y="190440"/>
            <a:ext cx="547920" cy="5479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8"/>
          <p:cNvSpPr/>
          <p:nvPr/>
        </p:nvSpPr>
        <p:spPr>
          <a:xfrm>
            <a:off x="2819520" y="228600"/>
            <a:ext cx="30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FI: AH super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"/>
          <p:cNvPicPr/>
          <p:nvPr/>
        </p:nvPicPr>
        <p:blipFill>
          <a:blip r:embed="rId2"/>
          <a:stretch/>
        </p:blipFill>
        <p:spPr>
          <a:xfrm>
            <a:off x="8153280" y="763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533520" y="1295280"/>
            <a:ext cx="761976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u4426 (PDBcode 3NQB): Adenine deaminase, prediction of adenine bound stru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ished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ochemist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n press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h0637: N6-methyladenine deaminase, prediction of N6-methyladenine bound stru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ished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ACS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pres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sp3690 (PDBcode 3K2G), substrate pred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ion finished, being tes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|26248344, substrate pred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ion produced, needs to be improved on the basis of 3K2G  predi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ahJ (gi|16128309), substrate pred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ion finished, being tes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3650040" y="7621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. Raush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EFI-logo-final-color"/>
          <p:cNvPicPr/>
          <p:nvPr/>
        </p:nvPicPr>
        <p:blipFill>
          <a:blip r:embed="rId1"/>
          <a:stretch/>
        </p:blipFill>
        <p:spPr>
          <a:xfrm>
            <a:off x="152280" y="190440"/>
            <a:ext cx="547920" cy="547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8153280" y="763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8"/>
          <p:cNvSpPr/>
          <p:nvPr/>
        </p:nvSpPr>
        <p:spPr>
          <a:xfrm>
            <a:off x="2655720" y="228600"/>
            <a:ext cx="32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FI: GST super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533520" y="1295280"/>
            <a:ext cx="761976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ingent starvation protein A (SSPA), substrate predi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ion finished for one SSPA structure (PDBcode 3LYP), continuing with 3 other SSPA structu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 GST homologs (YfcG and YghU), protein binding partner predi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interaction partner was predicted for YghU, based on a DIP database search (supported by affinity-tag experiment). (YC Ch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T, YibF and YfcF, ligand discov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tarted yet, will rely on holo crystal structures of YibF and YfcF, HEI docking databas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2810880" y="762120"/>
            <a:ext cx="292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. Armstrong, P. Babbi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EFI-logo-final-color"/>
          <p:cNvPicPr/>
          <p:nvPr/>
        </p:nvPicPr>
        <p:blipFill>
          <a:blip r:embed="rId1"/>
          <a:stretch/>
        </p:blipFill>
        <p:spPr>
          <a:xfrm>
            <a:off x="152280" y="190440"/>
            <a:ext cx="547920" cy="5479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8"/>
          <p:cNvSpPr/>
          <p:nvPr/>
        </p:nvSpPr>
        <p:spPr>
          <a:xfrm>
            <a:off x="2776320" y="22860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FI induced quest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" descr=""/>
          <p:cNvPicPr/>
          <p:nvPr/>
        </p:nvPicPr>
        <p:blipFill>
          <a:blip r:embed="rId2"/>
          <a:stretch/>
        </p:blipFill>
        <p:spPr>
          <a:xfrm>
            <a:off x="8153280" y="763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6"/>
          <p:cNvSpPr/>
          <p:nvPr/>
        </p:nvSpPr>
        <p:spPr>
          <a:xfrm>
            <a:off x="533520" y="1295280"/>
            <a:ext cx="7619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to identify proteins that are more likely to have a ligand predicted correctly by virtual scree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working plan was proposed (YC Chen, P Weinkam, H F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3733560" y="762120"/>
            <a:ext cx="106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Al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EFI-logo-final-color"/>
          <p:cNvPicPr/>
          <p:nvPr/>
        </p:nvPicPr>
        <p:blipFill>
          <a:blip r:embed="rId1"/>
          <a:stretch/>
        </p:blipFill>
        <p:spPr>
          <a:xfrm>
            <a:off x="152280" y="190440"/>
            <a:ext cx="547920" cy="5479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8"/>
          <p:cNvSpPr/>
          <p:nvPr/>
        </p:nvSpPr>
        <p:spPr>
          <a:xfrm>
            <a:off x="1512720" y="228600"/>
            <a:ext cx="59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ther Projects helped by EFI method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"/>
          <p:cNvPicPr/>
          <p:nvPr/>
        </p:nvPicPr>
        <p:blipFill>
          <a:blip r:embed="rId2"/>
          <a:stretch/>
        </p:blipFill>
        <p:spPr>
          <a:xfrm>
            <a:off x="8153280" y="763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6"/>
          <p:cNvSpPr/>
          <p:nvPr/>
        </p:nvSpPr>
        <p:spPr>
          <a:xfrm>
            <a:off x="533520" y="1295280"/>
            <a:ext cx="7619760" cy="43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iC chaperone, ligand discovery (NIH Roadmap Center on Protein Folding Machinery; W. Chiu, PI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ions generated based on a 4.5 Å cryo-EM structure of one TriC subunit; to be tested shortly by J. Frydm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gand discovery for SLC membrane transporters (NIH Roadmap centers CSMP (PSI Biology; R. Stroud, PI) and PMT (PGRN; K. Giacomini, P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drug ligands were predicted and tested experimentally with comparative models of several SLC transporters (A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lessinger, B. Shoichet, R. Stroud, K. Giacomin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4T04:28:02Z</dcterms:created>
  <dc:creator>John Gerlt</dc:creator>
  <dc:description/>
  <dc:language>en-US</dc:language>
  <cp:lastModifiedBy>Andrej Sali</cp:lastModifiedBy>
  <dcterms:modified xsi:type="dcterms:W3CDTF">2011-01-04T16:25:26Z</dcterms:modified>
  <cp:revision>63</cp:revision>
  <dc:subject/>
  <dc:title>PowerPoint Presentation</dc:title>
</cp:coreProperties>
</file>