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9BE8C-9BFF-4E33-BFB1-E309D5371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A7020-61B0-40B7-8BBD-E7FEB39D7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BE17B-2740-4BFA-8E08-392B06991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D6E3F-A14A-44F3-AD94-0D96BD137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29E4-69A2-4177-BE27-0F2A8F7DA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63AE-AD7A-4C77-BDC9-535DB4CDA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7E8F-8E38-4060-A9A3-51E8837B3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19A98-60E0-458D-81B7-FF569EAF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CEE65-E709-4552-AC28-8D2C15D4E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27559-94CB-4B31-8D09-A1D47C505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8DCEE-8DD7-4489-A827-A4AFFC43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5B2A3-8F32-4AA5-A791-AB54C4A5F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D925A6-D71D-4B67-A77E-1EA9D10A76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2" name="Text Box 8"/>
          <p:cNvSpPr/>
          <p:nvPr/>
        </p:nvSpPr>
        <p:spPr>
          <a:xfrm>
            <a:off x="2413440" y="228600"/>
            <a:ext cx="389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Method develop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609480" y="1295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grated comparative modeling and docking pipeli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 algn="just">
              <a:lnSpc>
                <a:spcPct val="120000"/>
              </a:lnSpc>
              <a:spcAft>
                <a:spcPts val="601"/>
              </a:spcAft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 preliminary version was benchmark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8"/>
          <p:cNvSpPr/>
          <p:nvPr/>
        </p:nvSpPr>
        <p:spPr>
          <a:xfrm>
            <a:off x="609480" y="2362320"/>
            <a:ext cx="78487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coring functions for protein-ligand, protein-peptide and protein-protein interaction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eliminary statistical scoring function for protein-ligand complexes was developed (RankScore and PoseScor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tein-peptide/protein statistical scoring functions are under development (GQ Dong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9"/>
          <p:cNvSpPr/>
          <p:nvPr/>
        </p:nvSpPr>
        <p:spPr>
          <a:xfrm>
            <a:off x="609480" y="4876920"/>
            <a:ext cx="7925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ampling of protein loops and sidechains in the presence of a flexible ligan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OMINO+MD/MC approach is under development (D. Barkan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Sampling based on protein sidechain rotamer library will be add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Box 1"/>
          <p:cNvSpPr/>
          <p:nvPr/>
        </p:nvSpPr>
        <p:spPr>
          <a:xfrm>
            <a:off x="2153160" y="762120"/>
            <a:ext cx="4364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H. Fan, B. Shoichet, M. Jacobson, 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49" name="Text Box 8"/>
          <p:cNvSpPr/>
          <p:nvPr/>
        </p:nvSpPr>
        <p:spPr>
          <a:xfrm>
            <a:off x="2819520" y="228600"/>
            <a:ext cx="30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AH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6"/>
          <p:cNvSpPr/>
          <p:nvPr/>
        </p:nvSpPr>
        <p:spPr>
          <a:xfrm>
            <a:off x="533520" y="1295280"/>
            <a:ext cx="7619760" cy="539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tu4426 (PDBcode 3NQB): Adenine deaminase, prediction of 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Biochemistry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in press)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h0637: N6-methyladenine deaminase, prediction of N6-methyladenine bound structur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nished (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JACS,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 pres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sp3690 (PDBcode 3K2G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i|26248344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produced, needs to be improved on the basis of 3K2G 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ahJ (gi|16128309), substrate predic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, being test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Box 6"/>
          <p:cNvSpPr/>
          <p:nvPr/>
        </p:nvSpPr>
        <p:spPr>
          <a:xfrm>
            <a:off x="3650040" y="762120"/>
            <a:ext cx="1412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. Raush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8"/>
          <p:cNvSpPr/>
          <p:nvPr/>
        </p:nvSpPr>
        <p:spPr>
          <a:xfrm>
            <a:off x="2655720" y="228600"/>
            <a:ext cx="326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: GST superfam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33520" y="1295280"/>
            <a:ext cx="7619760" cy="485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ringent starvation protein A (SSPA), substrate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 finished for one SSPA structure (PDBcode 3LYP), continuing with 3 other SSPA structur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wo GST homologs (YfcG and YghU), protein binding partner predictio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ne interaction partner was predicted for YghU, based on a DIP database search (supported by affinity-tag experiment). (YC Ch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GST, YibF and YfcF, ligand discovery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ot started yet, will rely on holo crystal structures of YibF and YfcF, HEI docking databas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5"/>
          <p:cNvSpPr/>
          <p:nvPr/>
        </p:nvSpPr>
        <p:spPr>
          <a:xfrm>
            <a:off x="2810880" y="762120"/>
            <a:ext cx="292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. Armstrong, P. Babbit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59" name="Text Box 8"/>
          <p:cNvSpPr/>
          <p:nvPr/>
        </p:nvSpPr>
        <p:spPr>
          <a:xfrm>
            <a:off x="2776320" y="228600"/>
            <a:ext cx="343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EFI induced question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6"/>
          <p:cNvSpPr/>
          <p:nvPr/>
        </p:nvSpPr>
        <p:spPr>
          <a:xfrm>
            <a:off x="533520" y="1295280"/>
            <a:ext cx="76197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How to identify proteins that are more likely to have a ligand predicted correctly by virtual screening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 working plan was proposed (YC Chen, P Weinkam, H Fa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5"/>
          <p:cNvSpPr/>
          <p:nvPr/>
        </p:nvSpPr>
        <p:spPr>
          <a:xfrm>
            <a:off x="3733560" y="762120"/>
            <a:ext cx="106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. Al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2" descr="EFI-logo-final-color"/>
          <p:cNvPicPr/>
          <p:nvPr/>
        </p:nvPicPr>
        <p:blipFill>
          <a:blip r:embed="rId1"/>
          <a:stretch/>
        </p:blipFill>
        <p:spPr>
          <a:xfrm>
            <a:off x="152280" y="190440"/>
            <a:ext cx="547920" cy="547920"/>
          </a:xfrm>
          <a:prstGeom prst="rect">
            <a:avLst/>
          </a:prstGeom>
          <a:ln w="0">
            <a:noFill/>
          </a:ln>
        </p:spPr>
      </p:pic>
      <p:sp>
        <p:nvSpPr>
          <p:cNvPr id="64" name="Text Box 8"/>
          <p:cNvSpPr/>
          <p:nvPr/>
        </p:nvSpPr>
        <p:spPr>
          <a:xfrm>
            <a:off x="1512720" y="228600"/>
            <a:ext cx="595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Other Projects helped by EFI methods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"/>
          <p:cNvPicPr/>
          <p:nvPr/>
        </p:nvPicPr>
        <p:blipFill>
          <a:blip r:embed="rId2"/>
          <a:stretch/>
        </p:blipFill>
        <p:spPr>
          <a:xfrm>
            <a:off x="8153280" y="76320"/>
            <a:ext cx="838440" cy="838080"/>
          </a:xfrm>
          <a:prstGeom prst="rect">
            <a:avLst/>
          </a:prstGeom>
          <a:ln w="0">
            <a:noFill/>
          </a:ln>
        </p:spPr>
      </p:pic>
      <p:sp>
        <p:nvSpPr>
          <p:cNvPr id="66" name="Rectangle 6"/>
          <p:cNvSpPr/>
          <p:nvPr/>
        </p:nvSpPr>
        <p:spPr>
          <a:xfrm>
            <a:off x="533520" y="1295280"/>
            <a:ext cx="7619760" cy="43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riC chaperone, ligand discovery (NIH Roadmap Center on Protein Folding Machinery; W. Chiu, PI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dictions generated based on a 4.5 Å cryo-EM structure of one TriC subunit; to be tested shortly by J. Frydm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igand discovery for SLC membrane transporters (NIH Roadmap centers CSMP (PSI Biology; R. Stroud, PI) and PMT (PGRN; K. Giacomini, P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drug ligands were predicted and tested experimentally with comparative models of several SLC transporters (A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hlessinger, B. Shoichet, R. Stroud, K. Giacomini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04T04:28:02Z</dcterms:created>
  <dc:creator>John Gerlt</dc:creator>
  <dc:description/>
  <dc:language>en-US</dc:language>
  <cp:lastModifiedBy>Andrej Sali</cp:lastModifiedBy>
  <dcterms:modified xsi:type="dcterms:W3CDTF">2011-01-04T16:25:26Z</dcterms:modified>
  <cp:revision>63</cp:revision>
  <dc:subject/>
  <dc:title>PowerPoint Presentation</dc:title>
</cp:coreProperties>
</file>