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6A7-0C55-435C-8694-49C5830D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635-4CD5-43B8-8B0C-2552BCE1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A63-7B12-48AB-94D1-032A94E6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D03-0685-46A5-8908-242DC54D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1F0-CDE0-44A4-AD36-3C06EDFF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D8E-41EC-4AB8-A1E4-3990157C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9F4-9EC0-4985-B0B3-1A271B57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078-47E1-4585-BBAE-7F35E6FA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6E2-21D9-48FA-8785-22C335D0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38E-A6E0-48D9-83EC-A0EE328E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391-0979-4D90-88D5-AF702DB6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235-F2BE-4E32-8411-955176EE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22EA-E82B-4421-90F4-FF3962217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413440" y="22860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Metho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comparative modeling and docking pip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reliminary version was benchmar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09480" y="2362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ing functions for protein-ligand, protein-peptide and protein-protein inter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liminary statistical scoring function for protein-ligand complexes was developed (RankScore and PoseSco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in-peptide/protein statistical scoring functions are under development (GQ Do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09480" y="4876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ing of protein loops and sidechains in the presence of a flexible lig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O+MD/MC approach is under development (D. Bark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ing based on protein sidechain rotamer library will b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153160" y="762120"/>
            <a:ext cx="43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Fan, B. Shoichet, M. Jacobs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819520" y="22860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AH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33520" y="1295280"/>
            <a:ext cx="76197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u4426 (PDBcode 3NQB): Adenine deaminase, prediction of 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pres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0637: N6-methyladenine deaminase, prediction of N6-methyl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r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p3690 (PDBcode 3K2G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|26248344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produced, needs to be improved on the basis of 3K2G 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hJ (gi|16128309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650040" y="762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Raus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655720" y="2286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GST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33520" y="1295280"/>
            <a:ext cx="76197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ent starvation protein A (SSPA), substrate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 for one SSPA structure (PDBcode 3LYP), continuing with 3 other SSPA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GST homologs (YfcG and YghU), protein binding partner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teraction partner was predicted for YghU, based on a DIP database search (supported by affinity-tag experiment). (YC 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T, YibF and YfcF, ligand disco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tarted yet, will rely on holo crystal structures of YibF and YfcF, HEI docking databa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10880" y="76212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Armstrong, P. Babb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776320" y="228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 induced ques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533520" y="12952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identify proteins that are more likely to have a ligand predicted correctly by virtual scre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king plan was proposed (YC Chen, P Weinkam, H F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733560" y="76212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Al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512720" y="22860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Projects helped by EFI method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3520" y="1295280"/>
            <a:ext cx="76197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 chaperone, ligand discovery (NIH Roadmap Center on Protein Folding Machinery; W. Chiu, P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s generated based on a 4.5 Å cryo-EM structure of one TriC subunit; to be tested shortly by J. Fryd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and discovery for SLC membrane transporters (NIH Roadmap centers CSMP (PSI Biology; R. Stroud, PI) and PMT (PGRN; K. Giacomini,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rug ligands were predicted and tested experimentally with comparative models of several SLC transporters (A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essinger, B. Shoichet, R. Stroud, K. Giacom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4:28:02Z</dcterms:created>
  <dc:creator>John Gerlt</dc:creator>
  <dc:description/>
  <dc:language>en-US</dc:language>
  <cp:lastModifiedBy>Andrej Sali</cp:lastModifiedBy>
  <dcterms:modified xsi:type="dcterms:W3CDTF">2011-01-04T16:25:26Z</dcterms:modified>
  <cp:revision>63</cp:revision>
  <dc:subject/>
  <dc:title>PowerPoint Presentation</dc:title>
</cp:coreProperties>
</file>